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3DA-D816-4FF7-8A97-2AF10C27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C70-A390-42E9-9FFD-5EEC5DD7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0A6E-4A45-43E3-98A6-D742040E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7B8-3DD4-410E-B394-DEB801BC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5FC-05AB-4934-9353-402AB398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370-C0BF-4BBF-B226-B0D32324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C0E-23B5-462A-834D-87A9D67F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114-D1A0-4F7A-A49E-50EB79D5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5CA-88D9-4B97-9BFA-A9D69706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508-53B9-4A0A-AE27-7AD5F903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B84F-EF9D-4ED0-837E-E5B17D9D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230B-43B9-4E9C-8C94-12D9F482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CFB1-5B04-49D1-BE33-EC26D1552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 verano en el cri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ax Fein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y he ido bucear. El agua estaba muy clara y hermosa. Me dicidi a ir a bucear no wind surf, bucear parecia mas divert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114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a el fine de semana en el hotel. Que era una hotel muy agradable, en un lugar muy hermoso. Yo estaba muy feliz de poder estar en ese hot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l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y hace calor en la playa. El sol brilla en el cielo en la playa. Me encanta ir a la playa m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qui aqua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572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i vacaciones yo tambien fui el esqui aquatico. Fue muy divertido, pero un poco dificil. Mi familia estaba en el barco para que pudieran verme y me gusto m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352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06:55Z</dcterms:created>
  <dc:creator>feinbergmax</dc:creator>
  <dc:description/>
  <dc:language>en-US</dc:language>
  <cp:lastModifiedBy>feinbergmax</cp:lastModifiedBy>
  <dcterms:modified xsi:type="dcterms:W3CDTF">2011-11-30T14:29:17Z</dcterms:modified>
  <cp:revision>4</cp:revision>
  <dc:subject/>
  <dc:title>Me verano en el cribe</dc:title>
</cp:coreProperties>
</file>